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9135-3738-45A9-85B0-E916C1AE0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720" y="1979640"/>
            <a:ext cx="884880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720" y="4582440"/>
            <a:ext cx="884880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22D5-7D50-4638-B2AE-BA0EAFECF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720" y="1979640"/>
            <a:ext cx="431820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5280" y="1979640"/>
            <a:ext cx="431820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720" y="4582440"/>
            <a:ext cx="431820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5280" y="4582440"/>
            <a:ext cx="431820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169D-E669-41F0-8BA7-9D8BE16BD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720" y="1979640"/>
            <a:ext cx="284904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12680" y="1979640"/>
            <a:ext cx="284904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04640" y="1979640"/>
            <a:ext cx="284904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720" y="4582440"/>
            <a:ext cx="284904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12680" y="4582440"/>
            <a:ext cx="284904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04640" y="4582440"/>
            <a:ext cx="284904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9197-483B-4E62-BD5A-95641A420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720" y="1979640"/>
            <a:ext cx="88488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3FD7-2A0B-431E-B14D-9014E5E08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720" y="1979640"/>
            <a:ext cx="88488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BA1C-35CF-4C16-A54B-A3B5F2D96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720" y="1979640"/>
            <a:ext cx="43182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5280" y="1979640"/>
            <a:ext cx="43182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7623-E6C5-4692-BBAE-0AAF17DCD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332D-1362-4197-988E-568427CDE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7805-6AF4-4A8F-B2A4-A409ED240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720" y="1979640"/>
            <a:ext cx="431820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5280" y="1979640"/>
            <a:ext cx="43182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720" y="4582440"/>
            <a:ext cx="431820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AE2D-AAEB-469B-B190-54852924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720" y="1979640"/>
            <a:ext cx="43182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5280" y="1979640"/>
            <a:ext cx="431820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5280" y="4582440"/>
            <a:ext cx="431820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2191-7D0C-4B48-8139-B3B137B0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720" y="1979640"/>
            <a:ext cx="431820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5280" y="1979640"/>
            <a:ext cx="431820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720" y="4582440"/>
            <a:ext cx="884880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11C6-D983-4AA1-9632-51D2190A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0720" y="1979640"/>
            <a:ext cx="88488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2720" y="656244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55720" y="656244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35360" y="656244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A15045-0408-4515-96A7-81085AC1A97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280099"/>
                </a:solidFill>
                <a:latin typeface="Times New Roman"/>
              </a:rPr>
              <a:t>ОГАОУ “Центр образования “Ступени”</a:t>
            </a: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20720" y="1866960"/>
            <a:ext cx="9072720" cy="52164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b80047"/>
                </a:solidFill>
                <a:latin typeface="Arial"/>
              </a:rPr>
              <a:t>Мы в ответе за тех,</a:t>
            </a:r>
            <a:endParaRPr b="0" lang="en-US" sz="4000" spc="-1" strike="noStrike">
              <a:solidFill>
                <a:srgbClr val="280099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b80047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b80047"/>
                </a:solidFill>
                <a:latin typeface="Arial"/>
              </a:rPr>
              <a:t>кого приручили!</a:t>
            </a:r>
            <a:endParaRPr b="0" lang="en-US" sz="4000" spc="-1" strike="noStrike">
              <a:solidFill>
                <a:srgbClr val="280099"/>
              </a:solidFill>
              <a:latin typeface="Arial"/>
            </a:endParaRPr>
          </a:p>
          <a:p>
            <a:pPr marL="343080" indent="0" algn="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Устный журнал </a:t>
            </a:r>
            <a:endParaRPr b="0" lang="en-US" sz="2200" spc="-1" strike="noStrike">
              <a:solidFill>
                <a:srgbClr val="280099"/>
              </a:solidFill>
              <a:latin typeface="Arial"/>
            </a:endParaRPr>
          </a:p>
          <a:p>
            <a:pPr marL="343080" indent="0" algn="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для учащихся</a:t>
            </a:r>
            <a:endParaRPr b="0" lang="en-US" sz="2200" spc="-1" strike="noStrike">
              <a:solidFill>
                <a:srgbClr val="280099"/>
              </a:solidFill>
              <a:latin typeface="Arial"/>
            </a:endParaRPr>
          </a:p>
          <a:p>
            <a:pPr marL="343080" indent="0" algn="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5 -8 классов</a:t>
            </a:r>
            <a:endParaRPr b="0" lang="en-US" sz="2200" spc="-1" strike="noStrike">
              <a:solidFill>
                <a:srgbClr val="280099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80099"/>
              </a:solidFill>
              <a:latin typeface="Arial"/>
            </a:endParaRPr>
          </a:p>
          <a:p>
            <a:pPr marL="343080" indent="0" algn="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200" spc="-1" strike="noStrike">
                <a:solidFill>
                  <a:srgbClr val="b80047"/>
                </a:solidFill>
                <a:latin typeface="Arial"/>
              </a:rPr>
              <a:t>Составила и провела:</a:t>
            </a:r>
            <a:r>
              <a:rPr b="0" i="1" lang="en-US" sz="2200" spc="-1" strike="noStrike">
                <a:solidFill>
                  <a:srgbClr val="b80047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280099"/>
              </a:solidFill>
              <a:latin typeface="Arial"/>
            </a:endParaRPr>
          </a:p>
          <a:p>
            <a:pPr marL="343080" indent="0" algn="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200" spc="-1" strike="noStrike">
                <a:solidFill>
                  <a:srgbClr val="000080"/>
                </a:solidFill>
                <a:latin typeface="Arial"/>
              </a:rPr>
              <a:t>Номоконова А.А.,</a:t>
            </a:r>
            <a:endParaRPr b="0" lang="en-US" sz="2200" spc="-1" strike="noStrike">
              <a:solidFill>
                <a:srgbClr val="280099"/>
              </a:solidFill>
              <a:latin typeface="Arial"/>
            </a:endParaRPr>
          </a:p>
          <a:p>
            <a:pPr marL="343080" indent="0" algn="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200" spc="-1" strike="noStrike">
                <a:solidFill>
                  <a:srgbClr val="000080"/>
                </a:solidFill>
                <a:latin typeface="Arial"/>
              </a:rPr>
              <a:t>         </a:t>
            </a:r>
            <a:r>
              <a:rPr b="0" i="1" lang="en-US" sz="2200" spc="-1" strike="noStrike">
                <a:solidFill>
                  <a:srgbClr val="000080"/>
                </a:solidFill>
                <a:latin typeface="Arial"/>
              </a:rPr>
              <a:t>учитель биологии и географи</a:t>
            </a: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и</a:t>
            </a:r>
            <a:endParaRPr b="0" lang="en-US" sz="2200" spc="-1" strike="noStrike">
              <a:solidFill>
                <a:srgbClr val="280099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80099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80099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80099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80099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80099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г. Биробиджан,2014 г.</a:t>
            </a:r>
            <a:endParaRPr b="0" lang="en-US" sz="2200" spc="-1" strike="noStrike">
              <a:solidFill>
                <a:srgbClr val="280099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211400" y="3527280"/>
            <a:ext cx="3827160" cy="234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2920" y="1062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b80047"/>
                </a:solidFill>
                <a:latin typeface="Arial"/>
              </a:rPr>
              <a:t>Игра “Хорошо - плохо”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20360" y="1223640"/>
            <a:ext cx="8854920" cy="6615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Дразнить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животных.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endParaRPr b="0" lang="en-US" sz="26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Дрессировать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животных.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endParaRPr b="0" lang="en-US" sz="26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Дергать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за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хвост.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endParaRPr b="0" lang="en-US" sz="26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Играть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с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животными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(напр.: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догнать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мячик).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endParaRPr b="0" lang="en-US" sz="26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Причесать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шерстку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щеткой.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endParaRPr b="0" lang="en-US" sz="26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Скидывать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с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высоты.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endParaRPr b="0" lang="en-US" sz="26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Кормить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животных.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endParaRPr b="0" lang="en-US" sz="26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Подходить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и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гладить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незнакомую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собаку.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endParaRPr b="0" lang="en-US" sz="26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Отвлекать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животных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во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время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еды.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endParaRPr b="0" lang="en-US" sz="26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Выгуливать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собаку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на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поводке.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endParaRPr b="0" lang="en-US" sz="26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Лечить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животных</a:t>
            </a: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.</a:t>
            </a:r>
            <a:r>
              <a:rPr b="0" lang="en-US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endParaRPr b="0" lang="en-US" sz="26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b80047"/>
                </a:solidFill>
                <a:latin typeface="Arial"/>
              </a:rPr>
              <a:t>Мы думаем...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76360" y="1563480"/>
            <a:ext cx="5256000" cy="540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</a:rPr>
              <a:t>что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</a:rPr>
              <a:t>вы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</a:rPr>
              <a:t>никогда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</a:rPr>
              <a:t>не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</a:rPr>
              <a:t>будете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</a:rPr>
              <a:t>обижать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</a:rPr>
              <a:t>своих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</a:rPr>
              <a:t>домашних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</a:rPr>
              <a:t>животных,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</a:rPr>
              <a:t>всегда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</a:rPr>
              <a:t>будите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</a:rPr>
              <a:t>любить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</a:rPr>
              <a:t>и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</a:rPr>
              <a:t>заботиться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</a:rPr>
              <a:t>о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</a:rPr>
              <a:t>них.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</a:rPr>
              <a:t>Никогда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</a:rPr>
              <a:t>не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будете 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</a:rPr>
              <a:t>давать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</a:rPr>
              <a:t>их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</a:rPr>
              <a:t>в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</a:rPr>
              <a:t>обиду,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</a:rPr>
              <a:t>а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</a:rPr>
              <a:t>только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</a:rPr>
              <a:t>защищать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</a:rPr>
              <a:t>и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</a:rPr>
              <a:t>заботиться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</a:rPr>
              <a:t>о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  <a:ea typeface="Arial Unicode MS"/>
              </a:rPr>
              <a:t>них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75280" y="1800360"/>
            <a:ext cx="3743280" cy="38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20360" y="503280"/>
            <a:ext cx="8854920" cy="68673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000080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</a:rPr>
              <a:t>Творятся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</a:rPr>
              <a:t>в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</a:rPr>
              <a:t>мире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</a:rPr>
              <a:t>чудеса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–</a:t>
            </a:r>
            <a:br>
              <a:rPr sz="2800"/>
            </a:br>
            <a:r>
              <a:rPr b="1" i="1" lang="en-US" sz="2800" spc="-1" strike="noStrike">
                <a:solidFill>
                  <a:srgbClr val="000080"/>
                </a:solidFill>
                <a:latin typeface="Times New Roman"/>
              </a:rPr>
              <a:t>Сегодня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</a:rPr>
              <a:t>днем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</a:rPr>
              <a:t>я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</a:rPr>
              <a:t>встретил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</a:rPr>
              <a:t>пса!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1" i="1" lang="en-US" sz="2800" spc="-1" strike="noStrike">
                <a:solidFill>
                  <a:srgbClr val="000080"/>
                </a:solidFill>
                <a:latin typeface="Times New Roman"/>
              </a:rPr>
              <a:t>Красивого,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</a:rPr>
              <a:t>огромного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1" i="1" lang="en-US" sz="2800" spc="-1" strike="noStrike">
                <a:solidFill>
                  <a:srgbClr val="000080"/>
                </a:solidFill>
                <a:latin typeface="Times New Roman"/>
              </a:rPr>
              <a:t>Совсем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– 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</a:rPr>
              <a:t>совсем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</a:rPr>
              <a:t>бездомного!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1" i="1" lang="en-US" sz="2800" spc="-1" strike="noStrike">
                <a:solidFill>
                  <a:srgbClr val="000080"/>
                </a:solidFill>
                <a:latin typeface="Times New Roman"/>
              </a:rPr>
              <a:t>И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</a:rPr>
              <a:t>я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</a:rPr>
              <a:t>привел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</a:rPr>
              <a:t>его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</a:rPr>
              <a:t>домой,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1" i="1" lang="en-US" sz="2800" spc="-1" strike="noStrike">
                <a:solidFill>
                  <a:srgbClr val="000080"/>
                </a:solidFill>
                <a:latin typeface="Times New Roman"/>
              </a:rPr>
              <a:t>Кормил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</a:rPr>
              <a:t>вареной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</a:rPr>
              <a:t>колбасой.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1" i="1" lang="en-US" sz="2800" spc="-1" strike="noStrike">
                <a:solidFill>
                  <a:srgbClr val="000080"/>
                </a:solidFill>
                <a:latin typeface="Times New Roman"/>
              </a:rPr>
              <a:t>Теперь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</a:rPr>
              <a:t>мы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</a:rPr>
              <a:t>с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</a:rPr>
              <a:t>ним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</a:rPr>
              <a:t>играем,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1" i="1" lang="en-US" sz="2800" spc="-1" strike="noStrike">
                <a:solidFill>
                  <a:srgbClr val="000080"/>
                </a:solidFill>
                <a:latin typeface="Times New Roman"/>
              </a:rPr>
              <a:t>И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</a:rPr>
              <a:t>прыгаем,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</a:rPr>
              <a:t>и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</a:rPr>
              <a:t>лаем!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1" i="1" lang="en-US" sz="2800" spc="-1" strike="noStrike">
                <a:solidFill>
                  <a:srgbClr val="000080"/>
                </a:solidFill>
                <a:latin typeface="Times New Roman"/>
              </a:rPr>
              <a:t>Но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</a:rPr>
              <a:t>брат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</a:rPr>
              <a:t>сказал: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– 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</a:rPr>
              <a:t>Бедняга!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1" i="1" lang="en-US" sz="2800" spc="-1" strike="noStrike">
                <a:solidFill>
                  <a:srgbClr val="000080"/>
                </a:solidFill>
                <a:latin typeface="Times New Roman"/>
              </a:rPr>
              <a:t>Ведь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</a:rPr>
              <a:t>это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</a:rPr>
              <a:t>же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– 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</a:rPr>
              <a:t>Дворняга!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1" i="1" lang="en-US" sz="2800" spc="-1" strike="noStrike">
                <a:solidFill>
                  <a:srgbClr val="000080"/>
                </a:solidFill>
                <a:latin typeface="Times New Roman"/>
              </a:rPr>
              <a:t>Сосед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</a:rPr>
              <a:t>сказал: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– 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</a:rPr>
              <a:t>Уродина!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1" i="1" lang="en-US" sz="2800" spc="-1" strike="noStrike">
                <a:solidFill>
                  <a:srgbClr val="000080"/>
                </a:solidFill>
                <a:latin typeface="Times New Roman"/>
              </a:rPr>
              <a:t>Ведь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</a:rPr>
              <a:t>пес-то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– 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</a:rPr>
              <a:t>Беспородина!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1" i="1" lang="en-US" sz="2800" spc="-1" strike="noStrike">
                <a:solidFill>
                  <a:srgbClr val="000080"/>
                </a:solidFill>
                <a:latin typeface="Times New Roman"/>
              </a:rPr>
              <a:t>На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</a:rPr>
              <a:t>что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</a:rPr>
              <a:t>мне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</a:rPr>
              <a:t>эта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</a:rPr>
              <a:t>мода?!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1" i="1" lang="en-US" sz="2800" spc="-1" strike="noStrike">
                <a:solidFill>
                  <a:srgbClr val="000080"/>
                </a:solidFill>
                <a:latin typeface="Times New Roman"/>
              </a:rPr>
              <a:t>Я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</a:rPr>
              <a:t>всем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</a:rPr>
              <a:t>сказал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</a:rPr>
              <a:t>вокруг: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1" i="1" lang="en-US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– 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</a:rPr>
              <a:t>Мне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</a:rPr>
              <a:t>не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</a:rPr>
              <a:t>нужна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</a:rPr>
              <a:t>порода,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1" i="1" lang="en-US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– 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</a:rPr>
              <a:t>Мне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</a:rPr>
              <a:t>нужен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</a:rPr>
              <a:t>друг</a:t>
            </a:r>
            <a:r>
              <a:rPr b="1" i="1" lang="en-US" sz="2400" spc="-1" strike="noStrike">
                <a:solidFill>
                  <a:srgbClr val="00008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975280" y="1655640"/>
            <a:ext cx="367200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20360" y="720360"/>
            <a:ext cx="8854920" cy="62499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Сегодня</a:t>
            </a:r>
            <a:r>
              <a:rPr b="1" i="1" lang="en-US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у</a:t>
            </a:r>
            <a:r>
              <a:rPr b="1" i="1" lang="en-US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жителей</a:t>
            </a:r>
            <a:r>
              <a:rPr b="1" i="1" lang="en-US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нашего</a:t>
            </a:r>
            <a:r>
              <a:rPr b="1" i="1" lang="en-US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города</a:t>
            </a:r>
            <a:r>
              <a:rPr b="1" i="1" lang="en-US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есть</a:t>
            </a:r>
            <a:r>
              <a:rPr b="1" i="1" lang="en-US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очень</a:t>
            </a:r>
            <a:r>
              <a:rPr b="1" i="1" lang="en-US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много</a:t>
            </a:r>
            <a:r>
              <a:rPr b="1" i="1" lang="en-US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  </a:t>
            </a: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друзей:</a:t>
            </a:r>
            <a:r>
              <a:rPr b="1" i="1" lang="en-US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собаки,</a:t>
            </a:r>
            <a:r>
              <a:rPr b="1" i="1" lang="en-US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кошки,черепахи,</a:t>
            </a:r>
            <a:r>
              <a:rPr b="1" i="1" lang="en-US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попугаи,</a:t>
            </a:r>
            <a:r>
              <a:rPr b="1" i="1" lang="en-US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хомячки</a:t>
            </a:r>
            <a:r>
              <a:rPr b="1" i="1" lang="en-US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и</a:t>
            </a:r>
            <a:r>
              <a:rPr b="1" i="1" lang="en-US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рыбки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О</a:t>
            </a: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ни</a:t>
            </a:r>
            <a:r>
              <a:rPr b="1" i="1" lang="en-US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радуют</a:t>
            </a:r>
            <a:r>
              <a:rPr b="1" i="1" lang="en-US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своих</a:t>
            </a:r>
            <a:r>
              <a:rPr b="1" i="1" lang="en-US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хозяев</a:t>
            </a:r>
            <a:r>
              <a:rPr b="1" i="1" lang="en-US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  </a:t>
            </a: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преданностью,</a:t>
            </a:r>
            <a:r>
              <a:rPr b="1" i="1" lang="en-US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но</a:t>
            </a:r>
            <a:r>
              <a:rPr b="1" i="1" lang="en-US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почему-то</a:t>
            </a:r>
            <a:r>
              <a:rPr b="1" i="1" lang="en-US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 н</a:t>
            </a: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а</a:t>
            </a:r>
            <a:r>
              <a:rPr b="1" i="1" lang="en-US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улицах</a:t>
            </a:r>
            <a:r>
              <a:rPr b="1" i="1" lang="en-US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Биробиджана</a:t>
            </a:r>
            <a:r>
              <a:rPr b="1" i="1" lang="en-US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все</a:t>
            </a:r>
            <a:r>
              <a:rPr b="1" i="1" lang="en-US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чаще</a:t>
            </a:r>
            <a:r>
              <a:rPr b="1" i="1" lang="en-US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стали</a:t>
            </a:r>
            <a:r>
              <a:rPr b="1" i="1" lang="en-US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появляться</a:t>
            </a:r>
            <a:r>
              <a:rPr b="1" i="1" lang="en-US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  </a:t>
            </a: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бездомные</a:t>
            </a:r>
            <a:r>
              <a:rPr b="1" i="1" lang="en-US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кошки</a:t>
            </a:r>
            <a:r>
              <a:rPr b="1" i="1" lang="en-US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и</a:t>
            </a:r>
            <a:r>
              <a:rPr b="1" i="1" lang="en-US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собаки</a:t>
            </a: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224000" y="4967280"/>
            <a:ext cx="3311640" cy="2143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904000" y="5111640"/>
            <a:ext cx="3240000" cy="1938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1120680" y="1871640"/>
            <a:ext cx="2406600" cy="165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7056360" y="1871640"/>
            <a:ext cx="2376720" cy="1655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4184640" y="1871640"/>
            <a:ext cx="2224080" cy="17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b80047"/>
                </a:solidFill>
                <a:latin typeface="Arial"/>
              </a:rPr>
              <a:t>Как</a:t>
            </a:r>
            <a:r>
              <a:rPr b="1" i="1" lang="en-US" sz="4400" spc="-1" strike="noStrike">
                <a:solidFill>
                  <a:srgbClr val="b80047"/>
                </a:solidFill>
                <a:latin typeface="Arial"/>
                <a:ea typeface="Times New Roman"/>
              </a:rPr>
              <a:t> </a:t>
            </a:r>
            <a:r>
              <a:rPr b="1" i="1" lang="en-US" sz="4400" spc="-1" strike="noStrike">
                <a:solidFill>
                  <a:srgbClr val="b80047"/>
                </a:solidFill>
                <a:latin typeface="Arial"/>
              </a:rPr>
              <a:t>вы</a:t>
            </a:r>
            <a:r>
              <a:rPr b="1" i="1" lang="en-US" sz="4400" spc="-1" strike="noStrike">
                <a:solidFill>
                  <a:srgbClr val="b80047"/>
                </a:solidFill>
                <a:latin typeface="Arial"/>
                <a:ea typeface="Times New Roman"/>
              </a:rPr>
              <a:t> </a:t>
            </a:r>
            <a:r>
              <a:rPr b="1" i="1" lang="en-US" sz="4400" spc="-1" strike="noStrike">
                <a:solidFill>
                  <a:srgbClr val="b80047"/>
                </a:solidFill>
                <a:latin typeface="Arial"/>
              </a:rPr>
              <a:t>думаете,</a:t>
            </a:r>
            <a:r>
              <a:rPr b="1" i="1" lang="en-US" sz="4400" spc="-1" strike="noStrike">
                <a:solidFill>
                  <a:srgbClr val="b80047"/>
                </a:solidFill>
                <a:latin typeface="Arial"/>
                <a:ea typeface="Times New Roman"/>
              </a:rPr>
              <a:t> </a:t>
            </a:r>
            <a:r>
              <a:rPr b="1" i="1" lang="en-US" sz="4400" spc="-1" strike="noStrike">
                <a:solidFill>
                  <a:srgbClr val="b80047"/>
                </a:solidFill>
                <a:latin typeface="Arial"/>
              </a:rPr>
              <a:t>откуда</a:t>
            </a:r>
            <a:r>
              <a:rPr b="1" i="1" lang="en-US" sz="4400" spc="-1" strike="noStrike">
                <a:solidFill>
                  <a:srgbClr val="b80047"/>
                </a:solidFill>
                <a:latin typeface="Arial"/>
                <a:ea typeface="Times New Roman"/>
              </a:rPr>
              <a:t>  </a:t>
            </a:r>
            <a:r>
              <a:rPr b="1" i="1" lang="en-US" sz="4400" spc="-1" strike="noStrike">
                <a:solidFill>
                  <a:srgbClr val="b80047"/>
                </a:solidFill>
                <a:latin typeface="Arial"/>
              </a:rPr>
              <a:t>они</a:t>
            </a:r>
            <a:r>
              <a:rPr b="1" i="1" lang="en-US" sz="4400" spc="-1" strike="noStrike">
                <a:solidFill>
                  <a:srgbClr val="b80047"/>
                </a:solidFill>
                <a:latin typeface="Arial"/>
                <a:ea typeface="Times New Roman"/>
              </a:rPr>
              <a:t> </a:t>
            </a:r>
            <a:r>
              <a:rPr b="1" i="1" lang="en-US" sz="4400" spc="-1" strike="noStrike">
                <a:solidFill>
                  <a:srgbClr val="b80047"/>
                </a:solidFill>
                <a:latin typeface="Arial"/>
              </a:rPr>
              <a:t>берутся?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4319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000080"/>
                </a:solidFill>
                <a:latin typeface="Arial"/>
              </a:rPr>
              <a:t>Может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</a:rPr>
              <a:t>они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</a:rPr>
              <a:t>потерялись?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000080"/>
                </a:solidFill>
                <a:latin typeface="Arial"/>
              </a:rPr>
              <a:t>А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</a:rPr>
              <a:t>может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</a:rPr>
              <a:t>их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</a:rPr>
              <a:t>просто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</a:rPr>
              <a:t>предали?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</a:rPr>
              <a:t>Оказывается,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</a:rPr>
              <a:t>что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</a:rPr>
              <a:t>бездомных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</a:rPr>
              <a:t>животных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</a:rPr>
              <a:t>создали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</a:rPr>
              <a:t>мы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— 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</a:rPr>
              <a:t>жители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   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</a:rPr>
              <a:t>Биробиджана</a:t>
            </a: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040360" y="2232000"/>
            <a:ext cx="446400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b80047"/>
                </a:solidFill>
                <a:latin typeface="Arial"/>
              </a:rPr>
              <a:t>Каждое</a:t>
            </a:r>
            <a:r>
              <a:rPr b="1" i="1" lang="en-US" sz="4000" spc="-1" strike="noStrike">
                <a:solidFill>
                  <a:srgbClr val="b80047"/>
                </a:solidFill>
                <a:latin typeface="Arial"/>
                <a:ea typeface="Times New Roman"/>
              </a:rPr>
              <a:t> </a:t>
            </a:r>
            <a:r>
              <a:rPr b="1" i="1" lang="en-US" sz="4000" spc="-1" strike="noStrike">
                <a:solidFill>
                  <a:srgbClr val="b80047"/>
                </a:solidFill>
                <a:latin typeface="Arial"/>
              </a:rPr>
              <a:t>брошенное</a:t>
            </a:r>
            <a:r>
              <a:rPr b="1" i="1" lang="en-US" sz="4000" spc="-1" strike="noStrike">
                <a:solidFill>
                  <a:srgbClr val="b80047"/>
                </a:solidFill>
                <a:latin typeface="Arial"/>
                <a:ea typeface="Times New Roman"/>
              </a:rPr>
              <a:t> </a:t>
            </a:r>
            <a:r>
              <a:rPr b="1" i="1" lang="en-US" sz="4000" spc="-1" strike="noStrike">
                <a:solidFill>
                  <a:srgbClr val="b80047"/>
                </a:solidFill>
                <a:latin typeface="Arial"/>
              </a:rPr>
              <a:t>животное</a:t>
            </a:r>
            <a:r>
              <a:rPr b="1" i="1" lang="en-US" sz="4000" spc="-1" strike="noStrike">
                <a:solidFill>
                  <a:srgbClr val="b80047"/>
                </a:solidFill>
                <a:latin typeface="Arial"/>
                <a:ea typeface="Times New Roman"/>
              </a:rPr>
              <a:t> — </a:t>
            </a:r>
            <a:r>
              <a:rPr b="1" i="1" lang="en-US" sz="4000" spc="-1" strike="noStrike">
                <a:solidFill>
                  <a:srgbClr val="b80047"/>
                </a:solidFill>
                <a:latin typeface="Arial"/>
              </a:rPr>
              <a:t>это</a:t>
            </a:r>
            <a:r>
              <a:rPr b="1" i="1" lang="en-US" sz="4000" spc="-1" strike="noStrike">
                <a:solidFill>
                  <a:srgbClr val="b80047"/>
                </a:solidFill>
                <a:latin typeface="Arial"/>
                <a:ea typeface="Times New Roman"/>
              </a:rPr>
              <a:t> </a:t>
            </a:r>
            <a:r>
              <a:rPr b="1" i="1" lang="en-US" sz="4000" spc="-1" strike="noStrike">
                <a:solidFill>
                  <a:srgbClr val="b80047"/>
                </a:solidFill>
                <a:latin typeface="Arial"/>
              </a:rPr>
              <a:t>чье-то</a:t>
            </a:r>
            <a:r>
              <a:rPr b="1" i="1" lang="en-US" sz="4000" spc="-1" strike="noStrike">
                <a:solidFill>
                  <a:srgbClr val="b80047"/>
                </a:solidFill>
                <a:latin typeface="Arial"/>
                <a:ea typeface="Times New Roman"/>
              </a:rPr>
              <a:t> </a:t>
            </a:r>
            <a:r>
              <a:rPr b="1" i="1" lang="en-US" sz="4000" spc="-1" strike="noStrike">
                <a:solidFill>
                  <a:srgbClr val="b80047"/>
                </a:solidFill>
                <a:latin typeface="Arial"/>
              </a:rPr>
              <a:t>предательство!</a:t>
            </a:r>
            <a:endParaRPr b="0" lang="en-US" sz="40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20720" y="1655280"/>
            <a:ext cx="5184720" cy="57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8000"/>
          </a:bodyPr>
          <a:p>
            <a:pPr marL="3358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В 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</a:rPr>
              <a:t>один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</a:rPr>
              <a:t>прекрасный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</a:rPr>
              <a:t>день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</a:rPr>
              <a:t>эти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</a:rPr>
              <a:t>милые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</a:rPr>
              <a:t>животные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</a:rPr>
              <a:t>вам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</a:rPr>
              <a:t>поверили,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</a:rPr>
              <a:t>они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</a:rPr>
              <a:t>вас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</a:rPr>
              <a:t>радовали,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</a:rPr>
              <a:t>они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</a:rPr>
              <a:t>были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</a:rPr>
              <a:t>с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</a:rPr>
              <a:t>вами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</a:rPr>
              <a:t>рядом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</a:rPr>
              <a:t>в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</a:rPr>
              <a:t>трудные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</a:rPr>
              <a:t>для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</a:rPr>
              <a:t>вас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</a:rPr>
              <a:t>минуты.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</a:rPr>
              <a:t>А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</a:rPr>
              <a:t>потом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</a:rPr>
              <a:t>о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</a:rPr>
              <a:t>них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</a:rPr>
              <a:t>просто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</a:rPr>
              <a:t>забыли.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</a:rPr>
              <a:t>Забыли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</a:rPr>
              <a:t>покормить,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</a:rPr>
              <a:t>заменить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</a:rPr>
              <a:t>туалет,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</a:rPr>
              <a:t>забыли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с ними 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</a:rPr>
              <a:t>поиграть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и погулять на свежем воздухе</a:t>
            </a:r>
            <a:r>
              <a:rPr b="0" i="1" lang="en-US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164280" y="2376360"/>
            <a:ext cx="3195720" cy="32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b80047"/>
                </a:solidFill>
                <a:latin typeface="Arial"/>
              </a:rPr>
              <a:t>Во многих странах мира...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20720" y="1563840"/>
            <a:ext cx="4751280" cy="28288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000080"/>
                </a:solidFill>
                <a:latin typeface="Arial"/>
              </a:rPr>
              <a:t>Во</a:t>
            </a:r>
            <a:r>
              <a:rPr b="1" i="1" lang="en-US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80"/>
                </a:solidFill>
                <a:latin typeface="Arial"/>
              </a:rPr>
              <a:t>многих</a:t>
            </a:r>
            <a:r>
              <a:rPr b="1" i="1" lang="en-US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80"/>
                </a:solidFill>
                <a:latin typeface="Arial"/>
              </a:rPr>
              <a:t>странах</a:t>
            </a:r>
            <a:r>
              <a:rPr b="1" i="1" lang="en-US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80"/>
                </a:solidFill>
                <a:latin typeface="Arial"/>
              </a:rPr>
              <a:t>мира</a:t>
            </a:r>
            <a:r>
              <a:rPr b="1" i="1" lang="en-US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80"/>
                </a:solidFill>
                <a:latin typeface="Arial"/>
              </a:rPr>
              <a:t>для</a:t>
            </a:r>
            <a:r>
              <a:rPr b="1" i="1" lang="en-US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80"/>
                </a:solidFill>
                <a:latin typeface="Arial"/>
              </a:rPr>
              <a:t>таких</a:t>
            </a:r>
            <a:r>
              <a:rPr b="1" i="1" lang="en-US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80"/>
                </a:solidFill>
                <a:latin typeface="Arial"/>
              </a:rPr>
              <a:t>брошенных</a:t>
            </a:r>
            <a:r>
              <a:rPr b="1" i="1" lang="en-US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80"/>
                </a:solidFill>
                <a:latin typeface="Arial"/>
              </a:rPr>
              <a:t>и</a:t>
            </a:r>
            <a:r>
              <a:rPr b="1" i="1" lang="en-US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80"/>
                </a:solidFill>
                <a:latin typeface="Arial"/>
              </a:rPr>
              <a:t>забытых</a:t>
            </a:r>
            <a:r>
              <a:rPr b="1" i="1" lang="en-US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80"/>
                </a:solidFill>
                <a:latin typeface="Arial"/>
              </a:rPr>
              <a:t>созданы</a:t>
            </a:r>
            <a:r>
              <a:rPr b="1" i="1" lang="en-US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80"/>
                </a:solidFill>
                <a:latin typeface="Arial"/>
              </a:rPr>
              <a:t>приюты</a:t>
            </a:r>
            <a:r>
              <a:rPr b="1" i="1" lang="en-US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80"/>
                </a:solidFill>
                <a:latin typeface="Arial"/>
              </a:rPr>
              <a:t>и</a:t>
            </a:r>
            <a:r>
              <a:rPr b="1" i="1" lang="en-US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80"/>
                </a:solidFill>
                <a:latin typeface="Arial"/>
              </a:rPr>
              <a:t>больницы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819760" y="1563840"/>
            <a:ext cx="2963880" cy="21812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040360" y="4103640"/>
            <a:ext cx="4535280" cy="2879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647640" y="3600360"/>
            <a:ext cx="3168720" cy="286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b80047"/>
                </a:solidFill>
                <a:latin typeface="Arial"/>
              </a:rPr>
              <a:t>А что у нас?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0360" y="1439640"/>
            <a:ext cx="8854920" cy="55292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000080"/>
                </a:solidFill>
                <a:latin typeface="Arial"/>
                <a:ea typeface="Arial Unicode MS"/>
              </a:rPr>
              <a:t>А  у нас  бездомные животные живут в подвалах домов, где холодно и сыро. Бродят по дворам и набережной. Именно там они все вместе выживают и приспосабливаются к новой  жизни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63600" y="3657600"/>
            <a:ext cx="2732040" cy="31100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7199280" y="3743280"/>
            <a:ext cx="2664000" cy="2878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3456000" y="3672000"/>
            <a:ext cx="3384360" cy="30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b80047"/>
                </a:solidFill>
                <a:latin typeface="Arial"/>
              </a:rPr>
              <a:t>А вы знаете?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20360" y="1563480"/>
            <a:ext cx="4608360" cy="5413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5000"/>
          </a:bodyPr>
          <a:p>
            <a:pPr marL="3258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000080"/>
                </a:solidFill>
                <a:latin typeface="Arial"/>
              </a:rPr>
              <a:t>Что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</a:rPr>
              <a:t>бездомные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</a:rPr>
              <a:t>животные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</a:rPr>
              <a:t>могут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</a:rPr>
              <a:t>быть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</a:rPr>
              <a:t>переносчиками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</a:rPr>
              <a:t>болезней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</a:rPr>
              <a:t>таких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</a:rPr>
              <a:t>как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</a:rPr>
              <a:t>стригущий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</a:rPr>
              <a:t>лишай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</a:rPr>
              <a:t>и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</a:rPr>
              <a:t>чесотка,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</a:rPr>
              <a:t>если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</a:rPr>
              <a:t>вовремя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</a:rPr>
              <a:t>заболевших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</a:rPr>
              <a:t>животных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</a:rPr>
              <a:t>не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</a:rPr>
              <a:t>доставить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</a:rPr>
              <a:t>в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</a:rPr>
              <a:t>ветеринарную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80"/>
                </a:solidFill>
                <a:latin typeface="Arial"/>
              </a:rPr>
              <a:t>клинику?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735520" y="1944720"/>
            <a:ext cx="3624480" cy="23032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5759280" y="4680000"/>
            <a:ext cx="3600720" cy="23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b80047"/>
                </a:solidFill>
                <a:latin typeface="Arial"/>
              </a:rPr>
              <a:t>Стригущий лишай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663640" y="1223640"/>
            <a:ext cx="467964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Это грибковое заболевание кожи.  Симптомы заболевания: на открытых пространствах кожи появляются ярко-красные пятна, шелушащиеся посередине; волосы на зараженных участках кожи делаются непрочными, обламываются, и создается впечатление, что их выстригли.</a:t>
            </a:r>
            <a:endParaRPr b="0" lang="en-US" sz="26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7415280" y="1944720"/>
            <a:ext cx="2160360" cy="1728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503280" y="301680"/>
            <a:ext cx="1584360" cy="14270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431640" y="2016000"/>
            <a:ext cx="2327400" cy="21052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7415280" y="4535640"/>
            <a:ext cx="2232000" cy="17938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720720" y="4824360"/>
            <a:ext cx="2016000" cy="2087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5T23:36:50Z</dcterms:created>
  <dc:creator/>
  <dc:description>Presentation Layout Template</dc:description>
  <dc:language>en-US</dc:language>
  <cp:lastModifiedBy/>
  <cp:revision>1</cp:revision>
  <dc:subject/>
  <dc:title>Blue Border</dc:title>
</cp:coreProperties>
</file>